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F2A-3B7E-4DEB-A80E-AF05AA8D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FD2-27FB-403C-AAA2-15CF263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1B4-DD09-4D46-B5EC-6B65C2BD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4DE-534C-4965-BA8D-80F5E243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335-0526-408F-8F2D-A70F5CBB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34B-DDEB-4EE7-B915-1809E247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D79-BA05-4F76-BB1E-49D06D3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23A-31E5-4129-B049-30823E24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728-99E3-4491-99AA-7E6CB969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CB3-890B-4774-AE78-261BD5A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2A2-29B1-4CAD-9A23-4465183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3AD-3A9A-4D3B-ACC3-FD30791D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BD58-5510-403E-9F78-D3FED74F11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462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al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924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46Z</dcterms:modified>
  <cp:revision>191</cp:revision>
  <dc:subject/>
  <dc:title>Slide 1</dc:title>
</cp:coreProperties>
</file>